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CB65-6403-491D-A4B2-7B2156796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830F-63AB-4417-A96E-5BE9F5361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A33B-2E3F-4CB3-926F-7A0BBD6A9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E1D5-D1D1-4857-BECF-36BC363F3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84AB-D1DF-4E6B-B24A-D6D484D60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B86C-C37F-4AB8-ADC6-D7C8EDF99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F63E-20E2-42C8-BB6C-0C586EA18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58A0-04EC-4B29-9D9C-816DC7113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B777-D1AE-4EBF-BC30-19FF2B835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8D9C-B2F9-4FF0-83BC-3E29AF72F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77B6-E290-412B-80CB-EF95B66DD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AA27-A480-4068-A7A7-CE54CE579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786-F338-447F-A778-BA29037D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8ED-BF31-4649-A210-E1123EBA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207-4483-4A4F-8E4E-1F082029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6E0-E470-48BB-A38C-E9039778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352-9810-4737-B9EA-4FC7A075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0E2-AE64-4C49-9E15-D110DFE3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27F-CAF5-4CB4-A5E5-F519F76E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592-B97D-400C-9766-5924CB13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1BD-E170-43E8-A193-B104D16E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8C9-8E5D-4BFC-B2F9-5E1F20B6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E51-B730-444B-ACF1-44E0BA29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25C-87E4-4F7E-8E88-B8FB320C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A519-05B6-4041-B338-837C35053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 minutes can you come up with an advertising idea to promote this bottle of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ques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any found this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at compare to the starter drawing t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found that easi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7" descr="This the finale design of my dance music magazine"/>
          <p:cNvPicPr/>
          <p:nvPr/>
        </p:nvPicPr>
        <p:blipFill>
          <a:blip r:embed="rId1"/>
          <a:stretch/>
        </p:blipFill>
        <p:spPr>
          <a:xfrm>
            <a:off x="642960" y="642960"/>
            <a:ext cx="3714840" cy="558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Untitled-13.jpg"/>
          <p:cNvPicPr/>
          <p:nvPr/>
        </p:nvPicPr>
        <p:blipFill>
          <a:blip r:embed="rId2"/>
          <a:stretch/>
        </p:blipFill>
        <p:spPr>
          <a:xfrm>
            <a:off x="4714920" y="642960"/>
            <a:ext cx="39258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back at your wo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look at your AS work and compare it your A2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reative skills have developed. Be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cept/id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use of photogra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design skills -fonts, colour schem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use of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did the creativity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conclu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234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notes you’ve made along with the notes in your bookle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creative skills you have used at AS and A2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Compare how your creative skills have developed from AS to A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 Ass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artner’s para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eative skills you have referred to in your wr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what ‘creativity’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 our own 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is it cre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cre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defin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ity is a balance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innovation and technical pro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an ideas per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yoursel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181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are you creative? Or are you more technically profici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your creative skills from 1 to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me? Am I, as a teacher cre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846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or technic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John Myatt he is an art reproduction artist. He reproduces famous works of art as exact cop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he cre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yatt creative or is 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ly pro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What do we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559480" y="627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www.yourbrushwiththelaw.com/_pictures/John.jpg"/>
          <p:cNvPicPr/>
          <p:nvPr/>
        </p:nvPicPr>
        <p:blipFill>
          <a:blip r:embed="rId1"/>
          <a:stretch/>
        </p:blipFill>
        <p:spPr>
          <a:xfrm>
            <a:off x="6286680" y="1285920"/>
            <a:ext cx="2592360" cy="314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i.thisislondon.co.uk/i/pix/2007/07/017_19_Monet_243x187.jpg"/>
          <p:cNvPicPr/>
          <p:nvPr/>
        </p:nvPicPr>
        <p:blipFill>
          <a:blip r:embed="rId2"/>
          <a:stretch/>
        </p:blipFill>
        <p:spPr>
          <a:xfrm>
            <a:off x="4214880" y="4286160"/>
            <a:ext cx="2000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es your creativity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your creativity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inherited or developed from outside family influence. Nature versus nur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bringing in creative skills from other subjects? This i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oss-curricular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skills develop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this AS work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entral concept to both pie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y creative or technically proficient or bo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reative decisions would have to have been m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reative skills have developed. Be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graphy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out design skills -fonts, colour sche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T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7" descr="This the finale design of my dance music magazine"/>
          <p:cNvPicPr/>
          <p:nvPr/>
        </p:nvPicPr>
        <p:blipFill>
          <a:blip r:embed="rId1"/>
          <a:stretch/>
        </p:blipFill>
        <p:spPr>
          <a:xfrm>
            <a:off x="642960" y="642960"/>
            <a:ext cx="3714840" cy="558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Untitled-13.jpg"/>
          <p:cNvPicPr/>
          <p:nvPr/>
        </p:nvPicPr>
        <p:blipFill>
          <a:blip r:embed="rId2"/>
          <a:stretch/>
        </p:blipFill>
        <p:spPr>
          <a:xfrm>
            <a:off x="4714920" y="642960"/>
            <a:ext cx="39258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v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evalauatve terms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, Outstanding…poo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ainstorm som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look again at the old student’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0:37:48Z</dcterms:created>
  <dc:creator>Permaul</dc:creator>
  <dc:description/>
  <dc:language>en-US</dc:language>
  <cp:lastModifiedBy>Permaul, Pravin</cp:lastModifiedBy>
  <cp:lastPrinted>2012-01-31T08:16:28Z</cp:lastPrinted>
  <dcterms:modified xsi:type="dcterms:W3CDTF">2013-02-15T14:58:26Z</dcterms:modified>
  <cp:revision>24</cp:revision>
  <dc:subject/>
  <dc:title>Evaluating creativity</dc:title>
</cp:coreProperties>
</file>